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gif" ContentType="image/gif"/>
  <Override PartName="/ppt/media/image8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F154-BE30-4B80-BA0B-FCD24F262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4115-8295-4D00-932E-DF4AC4593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96D5-2E48-4348-87A9-7E8CF1C11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2A00-1F97-44F3-95E4-0DB2DC4A4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3904-B956-4DE7-A39F-CBC72599A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5628-5263-4271-ADA8-F1711C467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BFBC-3C87-4F3A-B0DF-DCECD39A7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B218-C2D9-46B1-AB5F-A97083510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927E-8AA7-4F71-9CE6-013398978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BB3B-0036-4214-A8E0-1D9138CFF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7D2D-7673-4685-B4FA-549E52558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0C0F-B9EE-40F9-B650-653000A80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5EB9-F60B-439F-B283-D0C761345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3302-F317-4725-94B5-3535A449A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31A6-8501-4D09-B7B9-0F7DAF6B9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9FC6-F231-4A32-B523-47236E17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AA33-D441-438F-ADA3-7187FF6E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8395-C8E3-4A38-92E0-B67C2C91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8DEA-188A-40DB-8D2D-1AC679B8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30A-CF25-4772-A137-4D3C110B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4F1-F0B1-4744-B398-5EF8547F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A4F0-0996-4B58-BB27-F780EA53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029-2C74-4EBF-B346-B59C4A31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3F9B-0044-4AB7-A0A9-43480CB7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480D-D00A-4C0C-8BF2-2922C75C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B3B-7ABE-4EC9-BC06-8115977E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A608-6B0C-49E4-80C2-65EFE70E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B7CB-252C-448B-AC6B-EF6058765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8e4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447920" y="1295280"/>
            <a:ext cx="647676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e77"/>
                  </a:solidFill>
                  <a:miter/>
                </a:ln>
                <a:gradFill rotWithShape="0">
                  <a:gsLst>
                    <a:gs pos="0">
                      <a:srgbClr val="90bbc4"/>
                    </a:gs>
                    <a:gs pos="100000">
                      <a:srgbClr val="b9060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OETRY</a:t>
            </a:r>
            <a:endParaRPr b="0" lang="en-US" sz="2400" spc="1" strike="noStrike">
              <a:ln w="9360">
                <a:solidFill>
                  <a:srgbClr val="fffe77"/>
                </a:solidFill>
                <a:miter/>
              </a:ln>
              <a:gradFill rotWithShape="0">
                <a:gsLst>
                  <a:gs pos="0">
                    <a:srgbClr val="90bbc4"/>
                  </a:gs>
                  <a:gs pos="100000">
                    <a:srgbClr val="b9060b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304920" y="304920"/>
            <a:ext cx="16873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f49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5562720" y="1219320"/>
            <a:ext cx="3276360" cy="176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iteration repeats a consonant over and over; e.g. ‘Betty bought some butter but the butter was bitter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76320" y="3686040"/>
            <a:ext cx="2438280" cy="289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‘Toothpaste’ and ‘Snail’ shape  poems use alliteration.  Write a shape poem from one of these ideas using alliteration:  A rugby ball, a snake, a flower, a ghost, a star, a banana, a pair of glasses, your choi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snail"/>
          <p:cNvPicPr/>
          <p:nvPr/>
        </p:nvPicPr>
        <p:blipFill>
          <a:blip r:embed="rId1"/>
          <a:stretch/>
        </p:blipFill>
        <p:spPr>
          <a:xfrm>
            <a:off x="228600" y="1143000"/>
            <a:ext cx="4724280" cy="2262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toothpaste"/>
          <p:cNvPicPr/>
          <p:nvPr/>
        </p:nvPicPr>
        <p:blipFill>
          <a:blip r:embed="rId2"/>
          <a:stretch/>
        </p:blipFill>
        <p:spPr>
          <a:xfrm>
            <a:off x="2590920" y="3505320"/>
            <a:ext cx="6400800" cy="3128760"/>
          </a:xfrm>
          <a:prstGeom prst="rect">
            <a:avLst/>
          </a:prstGeom>
          <a:ln w="0">
            <a:noFill/>
          </a:ln>
        </p:spPr>
      </p:pic>
      <p:sp>
        <p:nvSpPr>
          <p:cNvPr id="92" name="WordArt 2"/>
          <p:cNvSpPr txBox="1"/>
          <p:nvPr/>
        </p:nvSpPr>
        <p:spPr>
          <a:xfrm>
            <a:off x="1676520" y="15228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e77"/>
                  </a:solidFill>
                  <a:miter/>
                </a:ln>
                <a:solidFill>
                  <a:srgbClr val="cc7b8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hape Poems</a:t>
            </a:r>
            <a:endParaRPr b="0" lang="en-US" sz="2400" spc="1" strike="noStrike">
              <a:ln w="19080">
                <a:solidFill>
                  <a:srgbClr val="fffe77"/>
                </a:solidFill>
                <a:miter/>
              </a:ln>
              <a:solidFill>
                <a:srgbClr val="cc7b8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e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2971800" y="228600"/>
            <a:ext cx="303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13b3b"/>
                  </a:solidFill>
                  <a:miter/>
                </a:ln>
                <a:solidFill>
                  <a:srgbClr val="b9f49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ap</a:t>
            </a:r>
            <a:endParaRPr b="0" lang="en-US" sz="2400" spc="1" strike="noStrike">
              <a:ln w="12600">
                <a:solidFill>
                  <a:srgbClr val="c13b3b"/>
                </a:solidFill>
                <a:miter/>
              </a:ln>
              <a:solidFill>
                <a:srgbClr val="b9f49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80880" y="1828800"/>
            <a:ext cx="518184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yourself.  Use the rhy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rite-a-Rap R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y, everybody, let’s write a r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there’s a rhythm you’ll need to cl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that rhythm and stay in ti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use a rap needs rhythm and a good strong rhy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what’ll we write?” I hear you sh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in’t no rules for what a rap’s ab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rap about a robber, you can rap about a ki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rap about a chewed up piece of string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ell, you can rap about almost …… anythi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rap_singers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5486400" y="1676520"/>
            <a:ext cx="32608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e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971800" y="228600"/>
            <a:ext cx="303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13b3b"/>
                  </a:solidFill>
                  <a:miter/>
                </a:ln>
                <a:solidFill>
                  <a:srgbClr val="b9f49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ap</a:t>
            </a:r>
            <a:endParaRPr b="0" lang="en-US" sz="2400" spc="1" strike="noStrike">
              <a:ln w="12600">
                <a:solidFill>
                  <a:srgbClr val="c13b3b"/>
                </a:solidFill>
                <a:miter/>
              </a:ln>
              <a:solidFill>
                <a:srgbClr val="b9f49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80880" y="1828800"/>
            <a:ext cx="518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09480" y="1752480"/>
            <a:ext cx="563904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rap about the ceiling, you can rap about the floo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rap about the window, write a rap on the do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rap about things that are mean or pleasa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rap about wrapping up a Christmas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rap about a mystery hidden in a box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rap about a pair of smelly old soc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rap about something that’s over and gon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rap about something that’s going on and on and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when you think there just ain’t nothing left to say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wrap it all up and put it a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’s a rap.  It’s a rap.  It’s a rap rap rap rap RAP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ony M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rap_singers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6172200" y="2133720"/>
            <a:ext cx="26416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0bb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1143000" y="228600"/>
            <a:ext cx="6934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b9f490"/>
                  </a:solidFill>
                  <a:miter/>
                </a:ln>
                <a:solidFill>
                  <a:srgbClr val="cc7b8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Poem to Perform</a:t>
            </a:r>
            <a:endParaRPr b="0" lang="en-US" sz="2400" spc="1" strike="noStrike">
              <a:ln w="19080">
                <a:solidFill>
                  <a:srgbClr val="b9f490"/>
                </a:solidFill>
                <a:miter/>
              </a:ln>
              <a:solidFill>
                <a:srgbClr val="cc7b8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33520" y="1523880"/>
            <a:ext cx="7924680" cy="51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notes to help you write a rap about the Treaty (at least 8 lines lo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about: things that happened that are not fair (protest) or use some of the ideas from the leaves off the ‘poet-tree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draft fir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1 The Treaty is ………..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2 ……………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8 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 reading your rap and clap the rhy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anything you need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your rap to the class, using expression, timing, volume, speed and rhy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2Pac Feat. G-Unit - L#D1723.mp3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202212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523880" y="380880"/>
            <a:ext cx="6629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e7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imerick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e7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09480" y="1981080"/>
            <a:ext cx="8001000" cy="824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merick is a fun poem that has five lines.  Lines one, two and five have three strong downbeats and the ends rhyme.  Lines three and four have two strong downbeats and rhy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80880" y="3124080"/>
            <a:ext cx="419112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’To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once was a boy named O’To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didn’t act smart when at sch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ried to read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got dirty look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he grew up to be quite a f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181480" y="3048120"/>
            <a:ext cx="3733920" cy="28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 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a Maria from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ted to sing and to 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he boogied on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nd awful displ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her neighbour set fire to her p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362320" y="6070680"/>
            <a:ext cx="4038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ry write your own limeri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7620120" y="5638680"/>
            <a:ext cx="1523880" cy="1171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2">
            <a:lum bright="34000"/>
          </a:blip>
          <a:stretch/>
        </p:blipFill>
        <p:spPr>
          <a:xfrm>
            <a:off x="76320" y="5638680"/>
            <a:ext cx="12459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5e1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IN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80880" y="1219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tertain and extend the writer’s imag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600200" y="19810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85800" y="2895480"/>
            <a:ext cx="78487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n enjoyment of different kinds of po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your skills in analysing poe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se the influence of culture and experience on po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, recognise and use patterns in a variety of poetry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 with the effects created by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 the quality of sounds produced by rhythm, rhyme, and allit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 the use of similes, metaphors, and figurative langu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oems you have read as models for your own wri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5e1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04920" y="1295280"/>
            <a:ext cx="15238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l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905120" y="1219320"/>
            <a:ext cx="708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ls a story or describes a person or thing.  Has a regular rhyme pattern, very often having four lines per verse, with the 2nd and 4th lines rhyming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905120" y="2073240"/>
            <a:ext cx="723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be used to create an atmosphere and express mood or feeling.  Has an irregular rhyth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981080" y="29718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981080" y="2971800"/>
            <a:ext cx="678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unit of verse consisting of words in a single r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1981080" y="38098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verse of a po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905120" y="4572000"/>
            <a:ext cx="693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em that has 14 lines and its usual rhyme scheme is abbaabba, followed by two or three other rhymes in the remaining six li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1905120" y="54100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ivision of a po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2057400" y="63244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rest of unit for more vocabulary relating to poetr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0bb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IMG_1265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304920" y="2438280"/>
            <a:ext cx="4971960" cy="3729240"/>
          </a:xfrm>
          <a:prstGeom prst="rect">
            <a:avLst/>
          </a:prstGeom>
          <a:ln w="0">
            <a:noFill/>
          </a:ln>
        </p:spPr>
      </p:pic>
      <p:sp>
        <p:nvSpPr>
          <p:cNvPr id="65" name="WordArt 5"/>
          <p:cNvSpPr txBox="1"/>
          <p:nvPr/>
        </p:nvSpPr>
        <p:spPr>
          <a:xfrm>
            <a:off x="1219320" y="533520"/>
            <a:ext cx="6629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5e143"/>
                  </a:solidFill>
                  <a:miter/>
                </a:ln>
                <a:gradFill rotWithShape="0">
                  <a:gsLst>
                    <a:gs pos="0">
                      <a:srgbClr val="b9f49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crostic Poem</a:t>
            </a:r>
            <a:endParaRPr b="0" lang="en-US" sz="2400" spc="1" strike="noStrike">
              <a:ln w="19080">
                <a:solidFill>
                  <a:srgbClr val="f5e143"/>
                </a:solidFill>
                <a:miter/>
              </a:ln>
              <a:gradFill rotWithShape="0">
                <a:gsLst>
                  <a:gs pos="0">
                    <a:srgbClr val="b9f49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80880" y="2362320"/>
            <a:ext cx="3353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A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867280" y="2514600"/>
            <a:ext cx="2667240" cy="270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rite your own Acrostic Poem using your name and/or surnam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1066680" y="609480"/>
            <a:ext cx="7086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0bbc4"/>
                  </a:solidFill>
                  <a:miter/>
                </a:ln>
                <a:gradFill rotWithShape="0">
                  <a:gsLst>
                    <a:gs pos="0">
                      <a:srgbClr val="fffe77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etaphors</a:t>
            </a:r>
            <a:endParaRPr b="0" lang="en-US" sz="2400" spc="1" strike="noStrike">
              <a:ln w="19080">
                <a:solidFill>
                  <a:srgbClr val="90bbc4"/>
                </a:solidFill>
                <a:miter/>
              </a:ln>
              <a:gradFill rotWithShape="0">
                <a:gsLst>
                  <a:gs pos="0">
                    <a:srgbClr val="fffe77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52280" y="2209680"/>
            <a:ext cx="8839440" cy="76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etaphor compares two unlike things using the words ‘is or was’; e.g. ‘He is a computer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33520" y="3352680"/>
            <a:ext cx="8229600" cy="33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each sentence and write a metaphor for each. 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very fas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a speedbo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s very ang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a warm per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s very me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very pret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s very gen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very s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934320" y="3886200"/>
            <a:ext cx="1881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f49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1143000" y="60948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e77"/>
                  </a:solidFill>
                  <a:miter/>
                </a:ln>
                <a:gradFill rotWithShape="0">
                  <a:gsLst>
                    <a:gs pos="0">
                      <a:srgbClr val="90bbc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lour Poems</a:t>
            </a:r>
            <a:endParaRPr b="0" lang="en-US" sz="2400" spc="1" strike="noStrike">
              <a:ln w="19080">
                <a:solidFill>
                  <a:srgbClr val="fffe77"/>
                </a:solidFill>
                <a:miter/>
              </a:ln>
              <a:gradFill rotWithShape="0">
                <a:gsLst>
                  <a:gs pos="0">
                    <a:srgbClr val="90bbc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33520" y="2133720"/>
            <a:ext cx="4952880" cy="41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GR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rey is the playground just before lunch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rey is the fog as it swirls around the hou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rey is the colour of the shells lying on the beach in win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rey is the rainy spray on an afternoon r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rey is the soft coat on my m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rey is gr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nd most of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rey is my tired mum’s h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400800" y="3124080"/>
            <a:ext cx="2286000" cy="24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 Y-chart to determine what your chosen colour looks, feels and sounds like.  Then write a colour poem using metaphors (not the words directly from the Y-chart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e77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1828800" y="533520"/>
            <a:ext cx="5486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9f49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imil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b9f49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80880" y="1905120"/>
            <a:ext cx="8305920" cy="76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ile compares two unlike things using the words ‘like’ or ‘as’; e.g. ‘My friend is like a diamond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57200" y="32004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80880" y="3144960"/>
            <a:ext cx="83059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each sentence and write a simile for each. 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shines like ……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laughs like a 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ddled like a 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rowd poured into Jade Stadium like ……… into a padd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big as a 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layers lumbered like …….. through mud to get to the try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clung like a ……. to his surfboa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bb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1981080" y="609480"/>
            <a:ext cx="6324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e77"/>
                  </a:solidFill>
                  <a:miter/>
                </a:ln>
                <a:solidFill>
                  <a:srgbClr val="78e448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imile Poems</a:t>
            </a:r>
            <a:endParaRPr b="0" lang="en-US" sz="2400" spc="1" strike="noStrike">
              <a:ln w="19080">
                <a:solidFill>
                  <a:srgbClr val="fffe77"/>
                </a:solidFill>
                <a:miter/>
              </a:ln>
              <a:solidFill>
                <a:srgbClr val="78e448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4920" y="2438280"/>
            <a:ext cx="426708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PE OF A GREYH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ead like a sna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ck like a dr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ack like a b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elly like a b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ot like a 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il like a r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029200" y="3200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5867280" y="4343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odel to write your own simile po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tn_greyhound003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172200" y="2286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3b3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1295280" y="533520"/>
            <a:ext cx="7010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78e448"/>
                  </a:solidFill>
                  <a:miter/>
                </a:ln>
                <a:solidFill>
                  <a:srgbClr val="90bbc4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gurative Language</a:t>
            </a:r>
            <a:endParaRPr b="0" lang="en-US" sz="2400" spc="1" strike="noStrike">
              <a:ln w="19080">
                <a:solidFill>
                  <a:srgbClr val="78e448"/>
                </a:solidFill>
                <a:miter/>
              </a:ln>
              <a:solidFill>
                <a:srgbClr val="90bbc4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80880" y="1600200"/>
            <a:ext cx="8382240" cy="1526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ERAL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teral language is meaning exactly what you say; e.g. Go jump in the la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ative language is saying one thing and meaning another; e.g. ‘Go jump in a lake!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80880" y="3505320"/>
            <a:ext cx="373392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ould the meaning of these sentences be if you took them literall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st was a real kill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you chill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ease give me a break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boy is two-fac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friend drives me up the wa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4724280" y="3505320"/>
            <a:ext cx="426744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the sentences and decide if they should be taken literally (L) or figuratively (F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was the apple of my ey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was very n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 had a mouth like a speedbo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had a crush on 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 was a very good stu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had a bleeding heart for anim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1:27:11Z</dcterms:created>
  <dc:creator>Apple Education</dc:creator>
  <dc:description/>
  <dc:language>en-US</dc:language>
  <cp:lastModifiedBy>administrator</cp:lastModifiedBy>
  <dcterms:modified xsi:type="dcterms:W3CDTF">2010-10-17T18:36:49Z</dcterms:modified>
  <cp:revision>15</cp:revision>
  <dc:subject/>
  <dc:title>PowerPoint Presentation</dc:title>
</cp:coreProperties>
</file>